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BD8F-35CF-4143-9DC5-393581F1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9FC4-5867-475A-9BF0-4B44F2925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0429-4A9A-456E-B0E4-8D1EB83C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664A-1F37-401B-A97D-1535997E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30F-EC97-43A3-9AAF-0312ACDD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CECA-BF38-4B82-AA87-EAA00E65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F14-DD05-42F7-AF96-75C0CC93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A99-9B7A-4A3C-8373-1113A1CE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A90-A1B7-485B-8232-F8741F34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33AC-4C8E-4328-8BA5-199E7C2C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96C-DA9E-40D9-A4B8-BB844E51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0C5-2B1B-4CC2-95BD-70221CE0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64C1-56D0-49BA-B3A3-95A55EBA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1D0C-50D0-4872-8809-008619FA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A2E8-FD4E-405D-A43E-20E47493A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Biology, Broadcast Journalism, Chiropractic, Community Service, Computer Technology, Cosmetology, Culinary Arts, Dance, Dentistry, Educational Gaming, Elementary Education, the Law, Meteorology, Music Education, Pharmacy, Photograph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1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 - 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11 only.  2012  and on complete Electronic Portfol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level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 &amp; 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; US Governmen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Sciences – Chemistry, Physics; Latin, Spa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d to complete AP Exam (M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10-09-10T01:13:23Z</dcterms:modified>
  <cp:revision>41</cp:revision>
  <dc:subject/>
  <dc:title>Berwick Area High School</dc:title>
</cp:coreProperties>
</file>